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B84-8874-4109-ABB2-FC046912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836-9552-4DED-9B4B-1B57195A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122-1963-4492-B8A5-1F15B72E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06A-A745-417B-A9B5-FAE61B83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F65-B80D-40A3-8BD7-9A200E11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E58-1437-4C2A-B410-6B62FA17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2DC-2440-428F-85AE-3A31C847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9EC-AE22-4DB4-8646-F4C55E2A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A48-23CD-4161-B03C-B3BCB344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28E-A1DF-4E6D-9696-D66D6A53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887-249E-42B7-AD21-281DE8A1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D06-7FAC-481D-83A3-614239A4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3E87-8E25-445D-AFE9-822F0EC0A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ÎMBRĂCĂMINTEA ROMANIL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anualul de Limba latină, clasa a IX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aniela Văduva, consultant principal I. Fische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148360" y="4724280"/>
            <a:ext cx="18478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oga, îmbrăcămintea oficială a cetăţeanului roman, (interzisă străinilor) era o piesă din lână albă (toga candida) tăiată în două semicercuri, ale căror dimensiuni ajungeau până la şase metri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 timp de doliu sau alte nenorociri se purta tog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culoare neagră (toga sordida). Aranjarea ei era destul de complicată şi cerea foarte multă mig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agistraţii şi băieţii cetăţenilor romani (până la 17 ani) purtau toga praetexta, toga tivită pe marg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u o bandă de purpură. După ce deveneau majori, tinerii îmbrăcau toga virilă (toga viri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nica, haină de uz curent, strânsă pe talie cu ajutorul unei cingători (cinctura), era purtată, de obicei, pe sub tog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llium şi paenula (îmbrăcăminte pentru timpul rece) au înlocuit cu timpul tog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emeile purtau o tunică, cu sau fără mâneci, mai largă decât cea a bărbaţilor. Pe deasupra acesteia se punea stola, o cămaşă lungă până la glezne, strânsă pe talie cu o cingătoare. Peste stola se purta o manta simplă (ricinium), sau o haină mai mare (palla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68360" y="0"/>
            <a:ext cx="9217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omp_i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76500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gaţi la toate modurile şi timpurile din tema de perfect, verbele de mai jo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cludo, -ere, -si, -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stendo, -ere, -ndi, -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do, -are, -avi, -at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cunoaşteţi următoarele forme verbale şi traduceţ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enavisse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piv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luera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overimu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veneru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alutaveritis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taţi propoziţiile următoare punând verbele la indicativ perfect. Traduceţ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esar post pugnam Ro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en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udius ab adulescentia in villa habit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omani longo bello Gallos vinc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40464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a3</cp:lastModifiedBy>
  <dcterms:modified xsi:type="dcterms:W3CDTF">2012-06-18T11:17:06Z</dcterms:modified>
  <cp:revision>45</cp:revision>
  <dc:subject/>
  <dc:title>SALARIUL</dc:title>
</cp:coreProperties>
</file>